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2287-94D5-4BBF-854E-CFFA1CEBD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841B-BD42-4604-B64C-EAC3FFC54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9AFB-E3DD-4D32-A1BD-E53E15FF2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B5C7-E893-42F4-BBDB-658848030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D023-F67C-4167-9C8E-982D627235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3EC2-4991-4B1E-8B2F-82011113C9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8772-588B-4BC8-86A4-C4DB7F6531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46AC-9F9D-4001-9C69-9E94A65BF5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5C36-D659-4853-BD4F-E7F7A6136C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C983-8C2E-46CB-9229-C93A8D43CC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3476-859A-49AC-8F84-03154460D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5F80-51DC-47AB-8B4B-6789EA641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97DB-62C9-4066-83F1-B0878D612D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4670-0173-4BF6-B30F-7980040C6E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5AB3-2671-4940-A2D7-99EE0D9746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47C5-E53A-450B-B79E-D3A38992CF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8A55-A336-4E97-A315-5C5FABC9B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6653-5BE5-44FD-9734-119463EAB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B66B-BD31-461E-837C-F65C14D99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3208-A316-4F37-BC9A-952D9D4DE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1628-B0B5-44C1-9BE4-7EA734610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E37F-3D09-40E6-9D49-2E07094FF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DFD0-260F-48DF-8FB3-E027E4378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F3D3-A725-4549-9849-3DEF6A268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556-F9BE-4CD4-965C-49964491A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6C53-1B25-4078-8B51-8E2B146A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sac.org/_res/documents/sl/pdf/List-of-Correctable-Ministerial-and-Clerical-Errors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ommitment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A Identified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may be detected during PI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 may contact you and allow corrections if they find certain discrepan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21 doesn’t match Bloc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for single entity doesn’t match discount reported on differen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21 includes entities missing from your Bloc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 Plan is missing one or more required elemen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B3F5-6210-4E74-B22A-5D3EEBB3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ests that Need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Block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entities, removing entities, changing discou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Award Date, Signature Date, Contract Expiration Dat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EBDC-6724-45DB-A818-089A38856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ests that Need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 Posting Dates, Bid Evaluation documents, Contract Signatures/Da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Blo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to increase dollars, request to change number of months of service, changes from recurring to non-recurring, changes from contract to Tariff or MT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3F44-E4E7-4C82-BF28-0F63107F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527F-16B4-4541-BDE7-D209B6D9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0D8D-8876-45DC-BB8C-785C98EF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ical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, Dea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Detected During 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rical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shop Perry Order allows applicants to make corrections to Forms 470 &amp; 471 - known as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ministerial &amp; clerical correc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nts have additional time to certify Forms 470 &amp; 471, make corrections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o not requi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Form 470 to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s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the Form 471 to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-filed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o not viol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CC regulations and/or program ru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C, with FCC guidance, developed a list of correctable items.  </a:t>
            </a:r>
            <a:r>
              <a:rPr b="0" lang="en-US" sz="26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List of Correctable M &amp; C Error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quent FCC Orders issued identified more corrections allowable during PIA re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F8E7-6034-4FD2-9F3E-B6F59161A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rical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ed the incorrect amount (i.e., data entered $100 instead of $1,00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itted an entity from the Block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the incorrect Form 470 number on the Form 47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 the wrong category of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mitted an unsigned contract to 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mitted an FR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d not include all of the required elements in the written tech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CAB-3630-4DB5-8749-EBF59EE65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8150400" cy="471816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CD6D-EEE4-4E3E-BDFF-859642E31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4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8150400" cy="47181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BAE2-92D0-4EA8-B86A-8DBAA1C7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D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384120" y="1682640"/>
            <a:ext cx="7766280" cy="425448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43A-981B-40F2-998F-19DF2486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, Dead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Day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 corrections MUST be submitted 20 calendar days (5 days for mail receipt + 15 days) from the date of USAC’s le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pt Notification Letter (RNL) –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pt Acknowledgment Letter (RAL) – 4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, email or fax corrections to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 doesn’t contain Block 4 information, so include the corrected Block 4 worksheet with your RAL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AA6E-8D50-456F-BEAB-2BA9131F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NL/RAL Cor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ons submitted after the deadline in the let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s to increase funding will not be gran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 will work with applicants to make clerical error corrections until the FCDL is is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A will request documentation to support the correction, such as contract, invoice, bill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568-0083-46FB-BFCA-F75BDA63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lfullwood</cp:lastModifiedBy>
  <dcterms:modified xsi:type="dcterms:W3CDTF">2009-09-17T17:55:12Z</dcterms:modified>
  <cp:revision>473</cp:revision>
  <dc:subject/>
  <dc:title>Slide 1</dc:title>
</cp:coreProperties>
</file>